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219-578B-4533-B2EB-45DBB5C0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1AE-E6F7-4212-8621-B1369331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F4D-E792-400F-ADB1-23C74D4E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78B-232C-4D43-AF62-1A0566DA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BC0-F7FA-475E-ADDB-0093A08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89E-1C97-487E-B64D-1F58C535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577-9734-446D-8DDA-B74D1625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337-3DBC-4CF9-B75B-70320A62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B7C-E51D-4756-8C07-F905D865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F40-3F9B-411D-99A8-C1665F88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A52-DA8C-4A2B-83AB-B277B62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7D5-7D78-438B-A2E2-BFD3BC13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59C7-CF5E-4C1C-882C-7F17F402FF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1187280" y="5805360"/>
            <a:ext cx="7056720" cy="768600"/>
          </a:xfrm>
          <a:prstGeom prst="rect">
            <a:avLst/>
          </a:prstGeom>
          <a:ln w="0">
            <a:noFill/>
          </a:ln>
        </p:spPr>
      </p:pic>
      <p:sp>
        <p:nvSpPr>
          <p:cNvPr id="4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DS_RGB"/>
          <p:cNvPicPr/>
          <p:nvPr/>
        </p:nvPicPr>
        <p:blipFill>
          <a:blip r:embed="rId2"/>
          <a:stretch/>
        </p:blipFill>
        <p:spPr>
          <a:xfrm>
            <a:off x="179280" y="1989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700360" y="1413000"/>
            <a:ext cx="64436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7.6.2015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ěrečná konference projek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ČNÝM POSTUPEM SOCIÁLNÍCH PARTNERŮ K PŘÍPRAVĚ ODVĚTVÍ NA ZMĚNY DŮCHODOVÉHO SYSTÉMU – ETAPA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24000" y="1197000"/>
            <a:ext cx="864216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 5 - Přípravná fáze pro realizaci sociálního audi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anovení vzorku firem, na kterých bude proveden odvětvový sociální audit - odborně vytvořený representativní vzorek za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yl vybrán vzorek firem, se kterými bude SPS a OS Stavba spolupracovat ve 2. etapě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chtief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rovia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ergie Kla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rostav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HL ŽS Br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24000" y="1197000"/>
            <a:ext cx="864216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 5 - Přípravná fáze pro realizaci sociálního audi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mapování dobré praxe v oblasti práce s cílovou skupinou na téma důchodové systémy v zahrani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elkem využity informace od 10 zahraničních partne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áno 18 bodů – otázek k dané problema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slání, vyhodnocení zaslaných odpovědí, zpracování souhrnných celkových závěrů a přehledů obsaženo v materiálu „ZMAPOVÁNÍ DOBRÉ PRAXE V ZAHRANIČÍ NA TÉMA DŮCHODOVÉ REFORMY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íprava odvětví stavebnictví je v členských zemích nejednotná, nejlepší Německo, Rakou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lavní cesty k řešení: doškolování a změny kvalifikace, převod na méně namáhavou práci, co nejširší a nejrozmanitější formy dalších důchodových pilířů, zdroje – vlády, firmy, zaměstn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áce ve stavebnictví do 67 let - situace je považována za nereáln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 reálné je považován odchod do důchodu 3 - 4 roky před zákonem schváleným důchodovým věkem, pro stavebnictví jsou pak vytvářeny překlenovací finanční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měny jsou provázeny nabídkou celoživotního vzdělá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xistují duální penzijní systémy – státní důchod + další příspěvek, ovlivněný příjmy zaměst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ně nastává ve stavebnictví nedostatek zkušených a kvalifikovaných pracovníků – i s ohledem na zvyšování nároků na profese, předpokládá se řešení přísunem zahraničních pracovní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79280" y="2637000"/>
            <a:ext cx="864252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 v dlouhodobém horizontu (20 let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tvoření Prognózy zaměstnanosti v odvětví stavebnictví do roku 20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kvalitních relevantních dat (demografická prognóza) za odvětví pro další práci s C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79280" y="162864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dlouhodobém horizontu (20 l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08000" y="2349360"/>
            <a:ext cx="8642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brané profese CZ-ISCO pro Prognózu zaměstnanosti v odvětví stavebnictví do roku 2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8137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24000" y="1197000"/>
            <a:ext cx="864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dlouhodobém horizontu (20 l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ognóza zaměstnanosti v odvětví stavebnictví do roku 2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kapitulace ohrožených profesí a jejich rozdělení mezi Stavebnictví 1 a Stavebnictv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avebnictví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de sledovat profese, zastoupené především v Hlavní stavební výrobě (HSV): zedník, montér suchých staveb – skupina 7122 a skupinu 7119 - ostatní kvalifikovaní pracovníci a řemeslníci HSV – lešenář, montér výplní stavebních otvorů, stavební montážník, výškový speci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avebnictví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pak bude sledovat profese, zastoupené především v pomocné stavební výrobě (PSV – řemesla, cechy), skupiny 7126, 7122, 7131, 7115, 7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24000" y="1197000"/>
            <a:ext cx="864216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dlouhodobém horizontu (20 l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ognóza zaměstnanosti v odvětví stavebnictví do roku 2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emografická prognóza potvrdila, že s prodlužujícím se věkem do důchodu bude nezbytné vytvořit vhodné podmínky pro starší zaměstnance – např. vzdělávání kvalifikovaných dělníků na mis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ejčetnější skupina obyvatel se do roku 2033 posune z dnešních 35 let na 55 l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růměrný věk pracovníků ve stavebnictví je o 1,5 roku vyšší ve v celé ČR, rozdíl se zvyšuje, stavebnictví bude demografickým vývojem postiženo více než ostatní odvětv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e stavebnictví pracuje 92 % mužů z celkového počtu zaměstnanc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o roku 2033 se ztrojnásobí podíl pracovníků ve stavebnictví starších 65 let - stavebnictví bude dále stárno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sledek vyústil ve stanovení 5 vybraných profesí + tabulka z dem. prognózy č. 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Bohuslav Štancl, M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P Stavebnictví I. - Specialista pro vedení sociálního dialogu a problematiku důchodového systému za stranu zaměstn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 rot="2331600">
            <a:off x="1979280" y="1125360"/>
            <a:ext cx="757080" cy="1965600"/>
          </a:xfrm>
          <a:prstGeom prst="downArrow">
            <a:avLst>
              <a:gd name="adj1" fmla="val 50000"/>
              <a:gd name="adj2" fmla="val 649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 rot="19336800">
            <a:off x="6084720" y="1125000"/>
            <a:ext cx="757440" cy="1965600"/>
          </a:xfrm>
          <a:prstGeom prst="downArrow">
            <a:avLst>
              <a:gd name="adj1" fmla="val 50000"/>
              <a:gd name="adj2" fmla="val 6487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SPS-CZ_1_n"/>
          <p:cNvPicPr/>
          <p:nvPr/>
        </p:nvPicPr>
        <p:blipFill>
          <a:blip r:embed="rId2"/>
          <a:stretch/>
        </p:blipFill>
        <p:spPr>
          <a:xfrm>
            <a:off x="826920" y="3357720"/>
            <a:ext cx="2857680" cy="1533240"/>
          </a:xfrm>
          <a:prstGeom prst="rect">
            <a:avLst/>
          </a:prstGeom>
          <a:ln w="0">
            <a:noFill/>
          </a:ln>
        </p:spPr>
      </p:pic>
      <p:sp>
        <p:nvSpPr>
          <p:cNvPr id="49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logo_facebook_05_2011"/>
          <p:cNvPicPr/>
          <p:nvPr/>
        </p:nvPicPr>
        <p:blipFill>
          <a:blip r:embed="rId3"/>
          <a:stretch/>
        </p:blipFill>
        <p:spPr>
          <a:xfrm>
            <a:off x="6084720" y="3068640"/>
            <a:ext cx="19623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50920" y="2060640"/>
            <a:ext cx="86421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ašich konferencích jsme ocenili významný podíl KZPS ČR na úspěšném průběhu a ukončení 1. eta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u, zejména prezident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ZPS Č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a Wies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kládané výsledky by nebyly možné bez osobní angažovanosti předsedy OS Stanislava Antoniva a prezidenta Svazu podnikatelů ve stavebnictví v ČR ing. Václava Matyáše a zkušených realizačních týmů odborníků obou partner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yla dobrá spolupráce i mezi platformami Stavebnictví 1 a Stavebnictví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šlo k vytvoření informačního prostředí a nástrojů pro zajištění připravenosti cílové skupiny na změny v důchodovém systé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jištěné informace, názory realizačních týmů a zejména názory a návrhy účastníků strukturovaných rozhovorů, informačních seminářů a konferencí přinesly rozsáhlou škálu možných řešení a v příležitost je v další etapě projektu využít pro model platný pro Českou republiku, neboť podle zjištění není možné jej tvořit pro celou Evropskou Unii jednot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Nadpis 1"/>
          <p:cNvSpPr/>
          <p:nvPr/>
        </p:nvSpPr>
        <p:spPr>
          <a:xfrm>
            <a:off x="179280" y="119700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vodem: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24000" y="2133720"/>
            <a:ext cx="86421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ouhodobě neudržitelná nerovnováha příjmů – odvodů a výdajů – důchodů – fiskální nerovnová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řešení se budou podílet 3 skupiny obyvatel: zaměstnavatelé (firmy soukromé i státní, státní správa), zaměstnanci a důchodci (kdo ponese důsled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ces, kterým důchodová reforma je,  bude vytvářet stát – politici, státní správa, odbory a podnikatelé – tripart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 tímto vědomím sílí a roste význam projektu, který zpracováváme, neboť problémy s pracovníky, kteří s ohledem na věk, zdravotní stav, neochotu se dále vzdělávat, případně dále cestovat po stavbách již ve významné míře existu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deální by bylo najít vyvážené a racionální řešení, které by fungovalo dlouhodob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y budeme prosazovat zachování konkurenceschopnosti našich podnikatelských subjektů – nezvyšovat cenu práce, posílit princip odpovědnosti a zásluhovosti občanů – musíme však umět formulovat naše cí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 jsme hledali v průběhu konání strukturovaných rozhovor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Nadpis 1"/>
          <p:cNvSpPr/>
          <p:nvPr/>
        </p:nvSpPr>
        <p:spPr>
          <a:xfrm>
            <a:off x="179280" y="1197000"/>
            <a:ext cx="878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ýchozí stav: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24000" y="2133720"/>
            <a:ext cx="864216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č. 3 – Vytvoření informačního prostředí a nástrojů pro zajištění připravenosti cílové skupiny na změny v důchodovém systém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mináře, strukturované/řízené rozhovo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0 informačních seminářů pro 750 účastníků pro oba sociální 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ení strukturovaných/řízených rozhovorů s vybranými účastník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šlo k vytvoření informačního prostředí a nástrojů pro zajištění připravenosti cílové skupiny na změny v důchodovém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79280" y="1197000"/>
            <a:ext cx="87868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A č. 3 – Vytvoření informačního prostředí a nástrojů pro zajištění připravenosti cílové skupiny na změny v důchodovém systému (Semináře, strukturované/řízené rozhovory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skutečnilo se 25 informačních seminářů za stranu zaměstnanců a 25 za stranu zaměstnavatel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rovedeno 19 strukturovaných rozhovorů za stranu zaměstnavatelů a 12 za stranu zaměstnanc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 seminářích se projevila malá informovanost účastníků o problémech – významně přispěly k odstranění tohoto   nedostat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astníci přivítali informace o cílech projektu, jeho šíři a hloubce, zajímali se možná řešení, která vyplývají z prodlužování věku odchodu do důcho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označně podporovali záměr vlády, „zastropovat“ výši věku odchodu do důchodu tak, aby odpovídala stupni vyspělosti české spol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ejně tak jednoznačně podporovali významný podíl vládních výdajů a evropských fondů na  řešení vybraných pracovních poz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iticky se vyjadřovali k opatřením vlády Petra Nečase v této obl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spondenti strukturovaných rozhovorů byli vybíráni ze širokého spektra profesí stavebních organiz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spondenti zpochybňovali smysl prodlužování věku odchodu do důcho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odpovědí vyplývá, ze organizace budou řešit dopady změn důchodového systému v době, kdy budou aktuální, náklady na řešení budou neproduktivní a nelze je zatím odhadn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 provedené definici rizikových profesí budou následovat návrhy změn pracovního režimu, změn pracovního prostředí a změn pracovních nástr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tímco zaměstnanci by podporovali účast zaměstnavatelských organizací na úhradě nákladů projektu, u zástupců těchto organizací byl tento názor ojedinělý, obdobně se lišila stanoviska stran na zapojení firmy do pro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éměř všichni respondenti hodnotili dotazník jako příliš obecný, zajímali se, proč jeho podoba nebyla předem konzultována s řešitelskými tý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50920" y="2205000"/>
            <a:ext cx="8893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č. 4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nos informací, poznatků a podnětů z práce s cílovou skupinou formou konfere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x jednodenní konference na té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ytvoření informačního prostředí a nástrojů pro zajiště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ipravenosti cílové skupiny na změny v důchodovém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x jednodenní konference na té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sledky a závěry prognózy zaměstnanosti v odvětví stavebnictví d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oku 203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izované 2 konference BP Stavebnictví I., kde došlo k přenos informací, poznatků a podnětů z práce s cílovou skupi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24000" y="1197000"/>
            <a:ext cx="864216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č. 4 – Přenos informací, poznatků a podnětů z práce s cílovou skupinou formou konferen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esty k řešení - náměty z diskus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ciální klid by mohl zajisti např. rovný důchod, umožňující udržení sociální důstojnosti důchodců (místo dnešních 2 200,- Kč např. 8000,- Kč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incip zásluhovosti a odpovědnosti občanů by mohl být vyjádřen např. individuálními účty, které by zohlednily délku zaměstnání a výši příj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ystém by mohl zahrnovat i existenci veřejných i podnikových penzijních fondů, připojištění ať už povinné nebo dobrovolné, podnikové nebo individuál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ystém by měl dostatek možností postihnout odvětvové, věkové i individuální odlišnosti, síla by byla v jeho pestrosti a variabilitě, kromě státního by umožňoval i participaci soukromého kapitálu – příležitost, aby si každý mohl ušít svůj důchod „na tělo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systému by byla zakódována i řešení, která budeme v další etapě projektu hle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50920" y="2421000"/>
            <a:ext cx="86421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5 - Přípravná fáze pro realizaci sociálního aud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vzorku firem, na kterých bude proveden odvětvový sociální    audit – odborně vytvořený representativní vzorek za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apování dobré praxe v oblasti práce s cílovou skupinou na téma důchodové systémy v zahrani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základě kvalitních vstupních informací byl stanoven vzorek firem reprezentující dané odvětv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vypracován odborný posudek: Zmapování dobré praxe v zahraničí na téma důchodové refo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0:20:01Z</dcterms:created>
  <dc:creator>Institut SPS</dc:creator>
  <dc:description/>
  <dc:language>en-US</dc:language>
  <cp:lastModifiedBy>Institut SPS</cp:lastModifiedBy>
  <dcterms:modified xsi:type="dcterms:W3CDTF">2015-06-16T14:22:31Z</dcterms:modified>
  <cp:revision>78</cp:revision>
  <dc:subject/>
  <dc:title>Snímek 1</dc:title>
</cp:coreProperties>
</file>